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40C8-8C94-44A9-958A-7871B92B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5907-A108-49E5-8936-0F82ED74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907C-A6EE-46B2-8CC0-11E79736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D72-B393-4CCA-BAD9-F1834004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2FAD-F834-48EC-AC8E-5ED0FBFE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9404-0A8F-44D7-895F-2F14D33F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E609-271E-4FD3-A313-9332F016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E3FB-A063-4EEF-B963-8B551149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6131-73A0-4B0D-A005-4FE384CF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B299-DD46-4B7E-A4D8-C49456C1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230D-AFE2-413A-9CF2-158020CB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089-BB92-4DB2-99DE-188014E3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5E0A-7A97-4C99-A106-BDA8B275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CCB7-4A47-4A89-BF31-E3A37BCE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2971-08EF-4407-983B-551D1739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0384-8BFD-4F46-B304-C895FBD4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9882-E0F3-4EB8-A2A9-C0983EEB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A9D-A653-487C-A5E0-4553C78C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F860-0171-4294-BA25-47644F64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41E1-D3CA-47B1-9224-53F41D7A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0CD5-9D68-4778-BFC9-DAC8C47D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1B8A-4607-46C0-A4E5-DB8AFFD5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8C8-D52B-42A5-A42F-48BC5DC2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697D-3DFC-4822-89B8-5DBD9254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A616-F0C4-4A5B-A090-FA5E6FEF0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C425-C9EE-4ADE-91FE-E7CE66FC78CD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colonization and Postwar Settlem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mao1"/>
          <p:cNvPicPr/>
          <p:nvPr/>
        </p:nvPicPr>
        <p:blipFill>
          <a:blip r:embed="rId1"/>
          <a:stretch/>
        </p:blipFill>
        <p:spPr>
          <a:xfrm>
            <a:off x="5791320" y="4191120"/>
            <a:ext cx="2914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ace Trea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policy changed from keeping Japan from reemerging as a military power to rebuilding its economy and transforming it into an important part in the anti-Communist blo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same day that the peace treaty was signed, a mutual security pact was signed between Japan and the U.S. It provided for continued U.S. military presence to protect it from commu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kinawa was to remain under U.S. occupation (1972); retaining rights to military ba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tified October 1951; went into effect April 195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ited Nations Declaration on Granting Independence to Colonial Countries and Peoples, 196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subjection of peoples to alien subjugation, domination and exploitation constitutes a denial of fundamental human rights, is contrary to the Charter of the United Nations and is an impediment to the promotion of world peace and co-oper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ll peoples have the right to self-determination; by virtue of that right they freely determine their political status and freely pursue their economic, social and cultural develop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coloniz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it became apparent that the Europe-centered world was no more, anti-colonial nationalism surged after 194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rocess of decolonization followed three broad patter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 war (Ch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ed independence (Indian subcontinent and much of Afr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decolonization (Algeria and South Afr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ivil War in Chin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st movement in China grew as poverty and civil unrest spread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e of Mao Tse-tung (Commun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y membership swelled from a mere 40,000 in 1937 to over a million in 194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Japan surrendered to end World War II, the civil war between the Nationalists and the Communists resu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supports Chiang Kai-shek and his Nationalis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fully recovered from its demoralizing defeat at the hands of the Japanese. (Lost popular supp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upt and inefficient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ivil War in Chin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3048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d with Communist victory, the Nationalist leaders escaped and set up a rival Chinese state on the island of Formosa (Taiwan) in 194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china_sm02"/>
          <p:cNvPicPr/>
          <p:nvPr/>
        </p:nvPicPr>
        <p:blipFill>
          <a:blip r:embed="rId1"/>
          <a:stretch/>
        </p:blipFill>
        <p:spPr>
          <a:xfrm>
            <a:off x="2971800" y="19810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egotiated Independence in India and Afr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India and much of colonial Africa, independence came with little bloodsh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ritish withdrew after WW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istan and India gained independence in August, 1947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in India between Hindu majority and Muslim mino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 shot dead by a Hindu zealot in 194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’s first prime minister, Jawaharlal Nehru was committed to the goal of state-directed moderniz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676520" y="304920"/>
            <a:ext cx="7010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colonization in Africa and Asia after World War II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219320" y="179064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egotiated Independence in India and Afr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a decade and a half of Indian independence, most of the African states also gained their sovereign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57, the Gold Coast (renamed Ghana) became tropical Africa’s first independent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1963 all of British-ruled Africa except for Southern Rhodesia was indepen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ch of these colonial possessions, charismatic nationalist leaders took charge of populist political parties and became the leaders to whom the British turned over po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colonization in Africa and Asia after World War I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066680" y="1790640"/>
            <a:ext cx="76075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523880" y="380880"/>
            <a:ext cx="71629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colonization in Africa and Asia after World War II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066680" y="1790640"/>
            <a:ext cx="76075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ost-Surrender Terms for Jap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dition of Japan following w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an was devas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cities (except Kyoto), the industries, and transportation networks were severely dama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vere shortage of food continued for several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tion– the cost of living rose by 10 percent each month for about two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egotiated Independence in India and Afr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olonization in much of French-ruled Africa followed a similarly smooth path, though the French were initially more resistant than the Britis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first, treated decolonization as assimi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ance dissolved its political ties with French West Africa and French Equatorial Africa in 1960, having already given the protectorates in Morocco and Tunisia their independence in 195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complete Decolonization: Algeria and South Afr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resence of sizeable European settler populations complicated the path from colony to n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eria: 1 million Europ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nch leaders claimed that Algeria was an integral part of metropolitan F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tuted a minority to the 9 million indigenous Arabs and Berber peo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 Africa: 4 million Europ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ity white rul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frikan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ersi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complete Decolonization: Algeria and South Afr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gerian War of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r dragged on for eight years (1954-1962), at a cost of as many as 300,000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home, French society was torn ap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gotiations to end the war began only after an insurrection l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l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rmy officers had caused the French Fourth Republic to fall in 1958 and brought Charles de Gaulle to po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1962, more than 9/10ths of the European population had depar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complete Decolonization: Algeria and South Afr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winning the elections of 1948, the Afrikaner-dominated National Party in South Africa enacted an extreme form of racial segregation known as apart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rtheid laws stripped Africans, Indians, and colored persons (mixed descent) of their few political ri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segregated; country divided into racial “homelan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frican National Congress opposed this legis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Sharpeville massacre of 1960, peaceful protest turned into violent pro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son Mandela was sentenced to life in prison in 196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st (U.S.) supported South Africa as a bulwark against the spread of communism in Af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ccupation of Japan (August 1945 - April 195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ntire operation was mainly carried out by the United Sta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Douglass MacArthur was named the Supreme Commander of the Allied Powers (SCA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panese people cooperated willingly with the occupation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ief objective of SCAP were demilitarization and democrat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h843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ccupation of Japan (August 1945 - April 195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ilit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mains of Japan’s war machine were destro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an basically lost all the territory seized after 189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able to maintain “self-defense” fo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g490441"/>
          <p:cNvPicPr/>
          <p:nvPr/>
        </p:nvPicPr>
        <p:blipFill>
          <a:blip r:embed="rId1"/>
          <a:stretch/>
        </p:blipFill>
        <p:spPr>
          <a:xfrm>
            <a:off x="1523880" y="0"/>
            <a:ext cx="762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ccupation of Japan (August 1945 - April 195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cratiz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to eliminate big business conglomerates; independent companies such as Honda, Toyota, and Sony emer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reform program to achieve a more equitable distribution of weal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ccupation of Japan (August 1945 - April 195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cratization, co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al re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orts to remove militaristic and ultra-nationalistic influences from sch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ded the teaching of Japanese history and geography until new textbooks could be writt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d students to think (no rote learn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organized school system after U.S.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ccupation of Japan (August 1945 - April 195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cratization,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the power of the emperor (figurehead); announce that he was not divine; peerage elimin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e executive power of the government responsible to the people or the representa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 legislative body that would be directly responsible to all adult citizens (universal suffr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democratically controlled political pa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ties between the government and Shinto shr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ion of a new constitution and bill of ri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6:58:27Z</dcterms:created>
  <dc:creator/>
  <dc:description/>
  <dc:language>en-US</dc:language>
  <cp:lastModifiedBy>Sue Gregory</cp:lastModifiedBy>
  <dcterms:modified xsi:type="dcterms:W3CDTF">2008-04-29T05:54:05Z</dcterms:modified>
  <cp:revision>10</cp:revision>
  <dc:subject/>
  <dc:title>Decolonization and Postwar Settlements</dc:title>
</cp:coreProperties>
</file>